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524E-91A1-4308-865A-3886B2E72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5C8A-5566-45DF-8BC3-85792AA0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4B9E-E6EF-47D7-ACDE-00D057396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96B6-C1ED-4D43-A94F-95A3DF557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BE04-31DA-47A5-A7D8-AE3BBF52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DF6C-C3B0-4332-9655-1F5D700A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8D59-09B1-45F7-B83D-51FFD18B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4CA4-CB04-43A6-9DF6-60341C9D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D6CA-DE1A-461E-AE2C-AA1EB009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E625-F5EA-4645-8C67-A05638CE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6241-A23C-44CB-BFF0-5C09D1B7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DEF1-BA39-415D-ABFA-916ABCB8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16EE-73D3-45F2-AD3F-CDE1CCAF0A0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OON  PORTLAND                        TROON  PORTLAND               TROON  PORTLAND  100TH           WEST  NETHERTON                     WEST  NETHERTON                   WEST  NETHER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4305240" y="-792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20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0" y="3213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EST  NETHERTON  100TH              WEST  NETHERTON  125TH             KILMARNOCK  EX  PRES.                EX  PRESIDENTS                   EX  PRESIDENTS  60TH    AYR  &amp;  PRESTWICK  EX  PRESIDENTS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2" descr="Troon Portland 100th 2"/>
          <p:cNvPicPr/>
          <p:nvPr/>
        </p:nvPicPr>
        <p:blipFill>
          <a:blip r:embed="rId1"/>
          <a:stretch/>
        </p:blipFill>
        <p:spPr>
          <a:xfrm>
            <a:off x="3513240" y="0"/>
            <a:ext cx="1116000" cy="1413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4" descr="West Netherton 1"/>
          <p:cNvPicPr/>
          <p:nvPr/>
        </p:nvPicPr>
        <p:blipFill>
          <a:blip r:embed="rId2"/>
          <a:stretch/>
        </p:blipFill>
        <p:spPr>
          <a:xfrm>
            <a:off x="4952880" y="260280"/>
            <a:ext cx="1133640" cy="1133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5" descr="West Netherton 2"/>
          <p:cNvPicPr/>
          <p:nvPr/>
        </p:nvPicPr>
        <p:blipFill>
          <a:blip r:embed="rId3"/>
          <a:stretch/>
        </p:blipFill>
        <p:spPr>
          <a:xfrm>
            <a:off x="6537240" y="260280"/>
            <a:ext cx="1152720" cy="1133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6" descr="West Netherton 3"/>
          <p:cNvPicPr/>
          <p:nvPr/>
        </p:nvPicPr>
        <p:blipFill>
          <a:blip r:embed="rId4"/>
          <a:stretch/>
        </p:blipFill>
        <p:spPr>
          <a:xfrm>
            <a:off x="8193240" y="404640"/>
            <a:ext cx="877680" cy="1024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7" descr="West Netherton 100th"/>
          <p:cNvPicPr/>
          <p:nvPr/>
        </p:nvPicPr>
        <p:blipFill>
          <a:blip r:embed="rId5"/>
          <a:stretch/>
        </p:blipFill>
        <p:spPr>
          <a:xfrm>
            <a:off x="200160" y="1773360"/>
            <a:ext cx="1189080" cy="1463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8" descr="West Netherton 125th"/>
          <p:cNvPicPr/>
          <p:nvPr/>
        </p:nvPicPr>
        <p:blipFill>
          <a:blip r:embed="rId6"/>
          <a:stretch/>
        </p:blipFill>
        <p:spPr>
          <a:xfrm>
            <a:off x="2000160" y="2133720"/>
            <a:ext cx="914400" cy="1069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9" descr="Kilmarnock Ex Pres"/>
          <p:cNvPicPr/>
          <p:nvPr/>
        </p:nvPicPr>
        <p:blipFill>
          <a:blip r:embed="rId7"/>
          <a:stretch/>
        </p:blipFill>
        <p:spPr>
          <a:xfrm>
            <a:off x="3584520" y="2133720"/>
            <a:ext cx="1170000" cy="1120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0" descr="Kilmarnock Ex Pres"/>
          <p:cNvPicPr/>
          <p:nvPr/>
        </p:nvPicPr>
        <p:blipFill>
          <a:blip r:embed="rId8"/>
          <a:stretch/>
        </p:blipFill>
        <p:spPr>
          <a:xfrm>
            <a:off x="5097600" y="2205000"/>
            <a:ext cx="1060200" cy="1009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1" descr="Ayr &amp; Prestwick Ex Pres"/>
          <p:cNvPicPr/>
          <p:nvPr/>
        </p:nvPicPr>
        <p:blipFill>
          <a:blip r:embed="rId9"/>
          <a:stretch/>
        </p:blipFill>
        <p:spPr>
          <a:xfrm>
            <a:off x="8121600" y="206064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4" descr="Kilmarnock Ex Pres"/>
          <p:cNvPicPr/>
          <p:nvPr/>
        </p:nvPicPr>
        <p:blipFill>
          <a:blip r:embed="rId10"/>
          <a:stretch/>
        </p:blipFill>
        <p:spPr>
          <a:xfrm>
            <a:off x="6608880" y="1916280"/>
            <a:ext cx="1147680" cy="1287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4" descr="Troon Portland 1.JPG"/>
          <p:cNvPicPr/>
          <p:nvPr/>
        </p:nvPicPr>
        <p:blipFill>
          <a:blip r:embed="rId11"/>
          <a:stretch/>
        </p:blipFill>
        <p:spPr>
          <a:xfrm>
            <a:off x="1857240" y="260280"/>
            <a:ext cx="1170000" cy="1157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0" descr="Troon Portland 3.JPG"/>
          <p:cNvPicPr/>
          <p:nvPr/>
        </p:nvPicPr>
        <p:blipFill>
          <a:blip r:embed="rId12"/>
          <a:stretch/>
        </p:blipFill>
        <p:spPr>
          <a:xfrm>
            <a:off x="272880" y="404640"/>
            <a:ext cx="102420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9T13:01:16Z</dcterms:created>
  <dc:creator>HP authorized customer</dc:creator>
  <dc:description/>
  <dc:language>en-US</dc:language>
  <cp:lastModifiedBy>John</cp:lastModifiedBy>
  <dcterms:modified xsi:type="dcterms:W3CDTF">2011-11-20T15:25:47Z</dcterms:modified>
  <cp:revision>16</cp:revision>
  <dc:subject/>
  <dc:title>Slide 1</dc:title>
</cp:coreProperties>
</file>